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18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6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51F-EE4E-4A4B-9EF8-FB8C7A7F4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9873-8B63-492D-99D3-52450ECE7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4771-6179-49B5-B58A-10A446462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CB48-1AB6-4CAB-B955-8B7268E7D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E02D-D46E-4DC4-947C-CACEBB36C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14F-3FAB-46A2-9F49-AF368C895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BA2-8B0A-431A-BDF2-FDDE49B6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47D-68A8-49DE-9822-133FD22E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E5E-2A0E-4923-B57F-8144C095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2DB-36A7-405A-80DE-2575AB7B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F455-BD86-488E-BD69-7DA63CF9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7E86-57EE-4456-9A11-8D1E25E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E8AC-9F47-4170-BB00-9990A53F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2A0B-0014-4846-943F-3BFF24B6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BEEC-6E71-4B67-AAF3-D6FD3DE6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51C-05EC-4343-872D-3BB0F72D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AF44-0DB3-43D2-8E98-806D1898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2BE-5B71-49A6-8507-A1B69E4A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7500-1896-4E1E-94C2-5249EC7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1A6E-DD4B-4CC6-9B29-D370E0A4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80BF-1FFC-419C-9ADF-73F2B407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8467-4A99-4B70-871B-DDAEDFA1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8379-8C01-41E5-BFF3-465142DF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382A-D8BD-4576-9E98-1A37151A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9818-EB02-48D5-B83B-1F099011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FCF5-EE48-4636-BEE6-02793AD0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82A3-E0F6-4F77-BF8A-5331BFD9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7D10-11A9-42F4-9FB4-F1FFE712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2A7-CE55-4E6B-B105-4F11DF29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EAFA-B351-45DC-BBF9-7A17A8C7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A805-C83F-4784-BE07-2F5C3E9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9A9D-0310-4E83-AFBC-2917285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4034-A4F8-4F54-97C2-D92300A5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9A7F-3BA2-4550-AB5D-487A161B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17C0-540D-4D62-8797-50CE5DB1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90BB-2D9F-46F0-9025-78313DAA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2C61-7A22-4232-9B63-C613B77D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13ED-2CF2-41FC-9A7A-1378DD18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1A1D-B9E0-4298-8E31-9B61D59D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7F0-CCD1-4E27-A2A4-AB44F43A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53AD-91ED-499B-AADA-391D84FF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CA98-7CC9-4770-B444-91FCB1D8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CFE95-52DD-4C14-8DED-C2A5DFDE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4E4D-BA06-404E-98D3-7E349B1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631C-062D-4033-8A7F-137713A7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8E0E-042D-4B20-8B68-B370BBB0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CD53A-618E-46EC-8447-5731FD2F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2782-EA72-4E06-8D7D-F418936A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03E4-EEDA-469F-AD19-F67F5082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9E216-5341-401D-97F5-DBDE5F3B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E60-CB2F-4323-BA22-F352454F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C487-D8FF-4A67-9C93-7792A0A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6C40-BFB5-42C0-8175-5A37C328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FF120-F053-43A4-8E5F-D2C92CC7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A7C38-3482-4955-8E2C-2C38835E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CA8F-1BF8-45B8-B59A-4EDE66A3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07DF-FFD3-4EEC-880C-74D50454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5776-A156-4E54-9B5F-184312F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F6C6-0EF0-4803-9330-0B3ED07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59B77-0396-4557-8ED3-278F2596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C485-FFA4-4E28-A113-FB7C76A6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CD8-9F5C-403F-8EE2-94E6E165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BE5D3-F447-48F3-A0ED-BA3B4433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9228-6D08-4D06-9AA7-A14D2B75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83206-C4EB-42F1-9EC1-E0FDF73D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3384-D90C-4B6C-896B-874E3C96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FE051-F966-4B6B-9B0E-55011EBA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696B2-D673-4B60-8E76-E247DF21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9CA8-D8B5-43D2-90A0-4DF8C081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6B6B0-08F5-4CFB-AC66-40DC3FC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C13E-47A7-4AD5-B189-22091AE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1781-6647-401F-832D-04BAEC1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8B5-DA17-4782-9748-E992C6D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62E12-3EB9-483E-8306-02FD44B3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A2E6-06EC-41F4-8E94-939D6027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BB134-DCA4-43B9-9A2B-75C29826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2531-04BC-4A4C-A4B9-131C9384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2A0D-06CA-4C22-8010-9B4290DF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17944-1264-41E8-850A-4593EB8E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F02DF-9135-4DE4-ACAB-E74484E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7232A-DFF8-42D0-A54A-CFACE0F4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29846-BCDE-4D06-9372-97837CD6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C91CA-951C-4D8B-B004-CABDD54C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924-A15C-4D70-A1B8-44957CE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ECE54-95CB-43E9-B2A1-43BA897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F6EC0-40C7-4708-B203-283BFD9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E4209-6D6E-4584-A821-2D4F5210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66638-EA2F-439F-80C8-6AA89042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91500-B874-41F4-BE81-934EC515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3B9C1-B5BF-4825-9E16-1D4DD782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1D79-4DB0-4253-989D-04BE1A5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AF948-55C7-403D-A351-A1756338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C82B8-5428-4BFE-8C9D-D747F77C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F9D9-F6C8-40C0-8BAE-CA167C97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C35-FEF1-4BE6-8D87-94AE741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2C83B-0BAF-4E41-B4CD-47AFBB9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107D8-A5D5-417A-828F-B9862AA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C3C69-CC2C-4E09-AD9C-188277D3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89708-BC80-456C-B980-590550EE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C08F-BB99-46F7-910A-4ABB4071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C1636-3C31-485E-80B4-61B4C730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DA39D-DA2E-41EA-B363-88B096BB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2204-7B2E-469C-B965-B4D48FD36B0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1132-BC57-41BA-ACBC-8E66A29F3A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8A00-D5D3-40E7-93F7-4D747B1E509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EDD4-2F11-4731-AAFC-A7F166D153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8DB4-794F-4585-9074-5A05C29E8D1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FC0D-4FC9-4EDD-9875-025540AA7D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13FD-5747-4AAE-B99E-B54E1CF2959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1080-B07E-40D8-9257-DB8F19AEAA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1152-DB08-4383-8C2A-A053B13CBCA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12CE-C19C-4683-A46B-DE4E50655A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2DA8-DFD4-4196-AE1C-EB0FC51C1E9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25FC-3788-4B9E-8A52-71129C9B41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FF1-13ED-4CB1-AFCA-A0DA1482DA6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8BC-2C66-47BB-9248-26A5AB132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E76A-F19D-476A-AC78-494AED79809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885C-9648-4BEE-B92E-486D2D4B5B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328680"/>
            <a:ext cx="8120160" cy="2957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Stanley La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Department of Computer Sci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University of Marylan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4494-4D25-4F27-9F51-EE4D8CC4E4B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495320" y="396252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ry complexi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E27F-6132-4C5D-8C1B-054AA62AFDE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Object 8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419" name="Object 12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419720" cy="2590920"/>
          </a:xfrm>
          <a:prstGeom prst="rect">
            <a:avLst/>
          </a:prstGeom>
          <a:ln w="0">
            <a:noFill/>
          </a:ln>
        </p:spPr>
      </p:pic>
      <p:sp>
        <p:nvSpPr>
          <p:cNvPr id="420" name="Content Placeholder 1"/>
          <p:cNvSpPr/>
          <p:nvPr/>
        </p:nvSpPr>
        <p:spPr>
          <a:xfrm>
            <a:off x="609480" y="3962520"/>
            <a:ext cx="403884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tabase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b-based interf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tab for each ev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laced with inline approa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tons and checkbox galo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tions and functionality were all shown directly on the interfa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laced with menu b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extual cl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6041-77A4-4B7A-B401-3F9F844DF29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main-agno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 metada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ynamic Reporting of Generic Result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D839-DDA9-4A16-8041-1B65BDA8EFA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aluation at Washington Hospital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rect Amalga Integ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-table / multi-view query constru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orting the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arm-based querying / repeating que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C979-3024-40B2-90B0-810D30B7AA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66FD-0A59-4DC1-A976-56402D444F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n Shneiderman, Ph.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therine Plaisant, Ph.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chael Gillam, MD (Microsoft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rk Smith, M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avid Roseman, MH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reg Marchand, M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tial support provided by Washington Hospital Cent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FB74-0238-44A4-B527-7E0E6EEB727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arching Categorical Histories with PatternFinder: Query Support for Electronic Health Records (Fails VAST 06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23880" y="2333520"/>
            <a:ext cx="6248520" cy="452448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422-1D8E-47A7-84B7-990839CEA5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feLines for Visualizing Patient Records (Plaisant AMIA 9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0" y="1905120"/>
            <a:ext cx="6603840" cy="4952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3"/>
          <a:stretch/>
        </p:blipFill>
        <p:spPr>
          <a:xfrm>
            <a:off x="1905120" y="1913040"/>
            <a:ext cx="7238880" cy="496404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C5B-CE44-46FE-934A-DAD1BD67B8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0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52192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587-CFA3-443A-9BAA-9256BC5013A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atternFinder 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atternFinder for Amalg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isual query interface sty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gressive query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lat-file data sour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malga-esque query interface sty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ob-based query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QL Server data sour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1915-FB95-47C1-B64C-E92611B841F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9FA7-6AC1-47E2-BC71-5E1D628134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AMIAfig1-v2"/>
          <p:cNvPicPr/>
          <p:nvPr/>
        </p:nvPicPr>
        <p:blipFill>
          <a:blip r:embed="rId3"/>
          <a:stretch/>
        </p:blipFill>
        <p:spPr>
          <a:xfrm>
            <a:off x="1371600" y="1752480"/>
            <a:ext cx="631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ational operato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lative increase greater than X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lative increase greater than X%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lative decrease greater than X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lative decrease greater than X%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ess than value in event X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qual to value in event X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ot equal to value in event X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ithin X prior to (relative)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ithin X following (relative)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ter X (relative)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efore X (relative)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s equal to (relative)”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qual to value in event X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ot equal to value in event X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7E23-5C08-43C7-AC47-57E44EE93DF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4718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62DC-573B-4DA1-BCED-21DBF9F28B1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AMIAfig1-v2"/>
          <p:cNvPicPr/>
          <p:nvPr/>
        </p:nvPicPr>
        <p:blipFill>
          <a:blip r:embed="rId2"/>
          <a:stretch/>
        </p:blipFill>
        <p:spPr>
          <a:xfrm>
            <a:off x="838080" y="1143000"/>
            <a:ext cx="81536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09" name="Rectangle 7"/>
          <p:cNvSpPr/>
          <p:nvPr/>
        </p:nvSpPr>
        <p:spPr>
          <a:xfrm>
            <a:off x="685800" y="1143000"/>
            <a:ext cx="4114800" cy="457200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371240"/>
            <a:ext cx="44960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feLines sty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ashes of varying lengths &amp; colors, indicating each eve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ll-and-Chain sty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ircles linked by lines, indicating event sequen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ign-by o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4800600" y="1143000"/>
            <a:ext cx="4267080" cy="304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main-agno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ditional level of abstrac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extual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mited domain knowled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form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llions of row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 7 terabytes of da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FB22-F536-4FE1-A7C2-2285C7E8662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22:10:25Z</dcterms:created>
  <dc:creator>Stanley Lam</dc:creator>
  <dc:description/>
  <dc:language>en-US</dc:language>
  <cp:lastModifiedBy>Stanley Lam</cp:lastModifiedBy>
  <dcterms:modified xsi:type="dcterms:W3CDTF">2008-05-30T06:57:38Z</dcterms:modified>
  <cp:revision>221</cp:revision>
  <dc:subject/>
  <dc:title>Slide 1</dc:title>
</cp:coreProperties>
</file>